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ssociation between oral bisphosphonates and risk of esophageal cancer, stratified by observation period and exposure frequency. *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 &lt; 0.001, compared with nonusers of respective observation periods. BP, bisphosphonate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E,B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number of bisphosphonate users with esophageal cancer;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n</a:t>
            </a:r>
            <a:r>
              <a:rPr b="0" lang="en-GB" sz="1200" spc="-1" strike="noStrike" baseline="-33000">
                <a:solidFill>
                  <a:srgbClr val="000000"/>
                </a:solidFill>
                <a:latin typeface="Arial"/>
                <a:ea typeface="msgothic"/>
              </a:rPr>
              <a:t>C,BP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, number of controls who had used bisphosphonates. The groups of regular user of the 5-year observation period await larger samples to constitute a valid compari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ral Bisphosphonates and Risk of Esophageal Cancer: A Dose-Intensity Analysis in a Nationwide Pop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Yunn-Fang Ho, Jaw-Town Lin, and Chun-Ying W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ancer Epidemiology Biomarkers &amp; Preven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21(6):993-9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ne 8, 20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American Association for Cancer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199280" y="7020000"/>
            <a:ext cx="203040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ociation between oral bisphosphonates and risk of esophageal cancer, stratified by observation period and exposure frequency. *P &lt; 0.001, compared with nonusers of respective observation period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199280" y="7020000"/>
            <a:ext cx="2030400" cy="4064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522440" y="1079640"/>
            <a:ext cx="70419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2440" y="6583320"/>
            <a:ext cx="43196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Yunn-Fang Ho et al. Cancer Epidemiol Biomarkers Prev 2012;21:993-99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2 by American Association for Cancer Re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